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338-4F49-45E5-96C4-C2CEEB94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B48-4A7C-4A06-9DF3-4B69194F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E2C-9676-4C78-B31E-E982922D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567-6994-4625-9BA4-7C067544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6CD-1206-427F-8F6C-0ABAB671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4E6-B9D0-4E14-A664-FDE70DFD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634-5E9B-4028-9C3E-DB48B2E5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AE0-0437-4FAE-BC6F-59D7A005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BDF-8B4F-4F4D-81F1-5D3A9C32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4E8-8B74-49E3-9D2B-1FF30734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A70-8059-4987-9B82-56A9E944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FFB-89F4-447E-ACC4-B15A0949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78C8-790B-48AA-AF56-61B9BA8D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renda Ri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os Mo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i Metals are all metals. Sodium, Lithium, Potassium, Rubidium, Cesium, Fran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only have 1 valence electron and are highly reactive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are soap, fertilizer, and medicine, which can be found with other compounds. Alkali Metals are never foun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Periodic Table of Elements Alkali Metals are found in Group1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 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ium's valence electron is so loosely bound that simply shining a light on the metal will cause that electron to fly away, somewhat photovoltaic all by itself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 in strength between sodium and potassium is enough to allow the heart to keep bea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13:38Z</dcterms:created>
  <dc:creator>tatumadmin</dc:creator>
  <dc:description/>
  <dc:language>en-US</dc:language>
  <cp:lastModifiedBy>tatumadmin</cp:lastModifiedBy>
  <dcterms:modified xsi:type="dcterms:W3CDTF">2009-12-04T15:09:02Z</dcterms:modified>
  <cp:revision>3</cp:revision>
  <dc:subject/>
  <dc:title>Transition Metals</dc:title>
</cp:coreProperties>
</file>